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12.jpeg" ContentType="image/jpeg"/>
  <Override PartName="/ppt/media/image6.gif" ContentType="image/gif"/>
  <Override PartName="/ppt/media/image11.gif" ContentType="image/gi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3F6-272E-45BE-BC45-0AC86CBD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B9C-8FBD-4673-B8BD-6D96F3A4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557-81EE-435B-B8E8-BAEBFCB9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BB0-6408-48E1-925F-CED7D9D8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2FF-A25F-47EE-B3A4-532D1CE1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FDD-9CFC-4AC1-A7DF-2009B468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CD3-0A75-46A8-BB60-08580768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CDC-6ED9-4BB5-8531-8332AE0F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BA3-D8D1-4326-B9BB-F6204126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F9B-ED69-4FC9-A957-4A5989D2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4C3-F23D-4FFF-B8F0-0D061461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D77-FC54-409A-BF42-5C8A5E5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CD71-0E15-4DE1-8CBA-1A275DE19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image.baidu.com/i?ct=503316480&amp;z=0&amp;tn=baiduimagedetail&amp;word=qq%B1%ED%C7%E9+&#764;%BF%BC&amp;in=30617&amp;cl=2&amp;lm=-1&amp;pn=3&amp;rn=1&amp;di=5274930081&amp;ln=1&amp;fr=&amp;ic=0&amp;s=&amp;se=&amp;sme=0&amp;tab=&amp;width=&amp;height=&amp;face=0&amp;fb=0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127;%C9%FA%D7%F6%D7%F7&#1205;&amp;in=12510&amp;cl=2&amp;lm=6&amp;pn=41&amp;rn=1&amp;di=40587502125&amp;ln=1&amp;fr=&amp;ic=0&amp;s=&amp;se=&amp;sme=0&amp;tab=&amp;width=&amp;height=&amp;face=0&amp;fb=1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819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63960" y="2486160"/>
            <a:ext cx="392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3.1.1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一元一次方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870120" cy="785520"/>
            <a:chOff x="0" y="0"/>
            <a:chExt cx="870120" cy="7855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52240" y="142920"/>
              <a:ext cx="31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999"/>
                  </a:solidFill>
                  <a:latin typeface="Arial"/>
                </a:rPr>
                <a:t>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999"/>
                  </a:solidFill>
                  <a:latin typeface="Arial"/>
                </a:rPr>
                <a:t>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42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χ=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容易知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使等式成立， 对于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700+150χ=2 4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你知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于什么时，等式成立？我们来试一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14840" y="1555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来填下面的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26920" y="2276640"/>
          <a:ext cx="7750080" cy="1309680"/>
        </p:xfrm>
        <a:graphic>
          <a:graphicData uri="http://schemas.openxmlformats.org/drawingml/2006/table">
            <a:tbl>
              <a:tblPr/>
              <a:tblGrid>
                <a:gridCol w="1704960"/>
                <a:gridCol w="836280"/>
                <a:gridCol w="835920"/>
                <a:gridCol w="893160"/>
                <a:gridCol w="776160"/>
                <a:gridCol w="845640"/>
                <a:gridCol w="1059120"/>
                <a:gridCol w="568440"/>
                <a:gridCol w="231840"/>
              </a:tblGrid>
              <a:tr h="669960"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0+150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255888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5088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960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7016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2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7996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860640"/>
            <a:ext cx="9144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于是我们知道当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 700+15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值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 45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方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 700+150=2 45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中的未知数的值应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4869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方程就是求出使方程中等号左右两边相等的未知数的值，这个值就是方程的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5805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哪一个是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2χ 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0.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043080" cy="2452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971640" y="3357720"/>
            <a:ext cx="4535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们，再见！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584360" cy="936720"/>
            <a:chOff x="0" y="0"/>
            <a:chExt cx="1584360" cy="9367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584360" cy="93672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120" y="216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知识回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744840" y="803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什么叫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77720" y="76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含有未知数的等式叫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下列式子是不是方程，正确打“√”，错误打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=3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         (4)   x+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≥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 1+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4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         (5)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1-3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         (6)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=0              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98920" y="227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288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852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980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98920" y="270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4560" y="227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0760" y="3284640"/>
            <a:ext cx="44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小学我们是这样解方程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如解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x-7=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7=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所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x=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×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所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141720"/>
            <a:ext cx="2881080" cy="2519280"/>
          </a:xfrm>
          <a:prstGeom prst="cloudCallout">
            <a:avLst>
              <a:gd name="adj1" fmla="val -68347"/>
              <a:gd name="adj2" fmla="val 13138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知道这样解的依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7040" y="5373720"/>
            <a:ext cx="548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x=50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x+1=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CHL_021" descr=""/>
          <p:cNvPicPr/>
          <p:nvPr/>
        </p:nvPicPr>
        <p:blipFill>
          <a:blip r:embed="rId1"/>
          <a:srcRect l="0" t="2614" r="22948" b="26157"/>
          <a:stretch/>
        </p:blipFill>
        <p:spPr>
          <a:xfrm>
            <a:off x="7240680" y="5560920"/>
            <a:ext cx="1903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0" y="1700280"/>
              <a:ext cx="623556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0360" y="2347920"/>
              <a:ext cx="316872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29080" y="213192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6360" y="1771560"/>
              <a:ext cx="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28720" y="213192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0360" y="1771560"/>
              <a:ext cx="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0360" y="1916280"/>
              <a:ext cx="201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60360" y="1916280"/>
              <a:ext cx="21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1120" y="2347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王家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63040" y="2347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青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83760" y="2347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翠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63400" y="2347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秀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75320" y="1628640"/>
              <a:ext cx="6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06400" y="2060640"/>
              <a:ext cx="6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43120" y="2060640"/>
              <a:ext cx="6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73480" y="2452680"/>
              <a:ext cx="1154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15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51280" y="2452680"/>
              <a:ext cx="12222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3333cc"/>
                  </a:solidFill>
                  <a:latin typeface="Arial"/>
                </a:rPr>
                <a:t>秀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73480" y="2209680"/>
              <a:ext cx="1154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13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51280" y="2209680"/>
              <a:ext cx="12222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3333cc"/>
                  </a:solidFill>
                  <a:latin typeface="Arial"/>
                </a:rPr>
                <a:t>青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73480" y="1967040"/>
              <a:ext cx="1154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1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1280" y="1967040"/>
              <a:ext cx="1222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3333cc"/>
                  </a:solidFill>
                  <a:latin typeface="Arial"/>
                </a:rPr>
                <a:t>王家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73480" y="1700280"/>
              <a:ext cx="11541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3333cc"/>
                  </a:solidFill>
                  <a:latin typeface="Arial"/>
                </a:rPr>
                <a:t>时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1280" y="1700280"/>
              <a:ext cx="1222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3333cc"/>
                  </a:solidFill>
                  <a:latin typeface="Arial"/>
                </a:rPr>
                <a:t>地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51280" y="1700280"/>
              <a:ext cx="23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1280" y="1967040"/>
              <a:ext cx="23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51280" y="2209680"/>
              <a:ext cx="23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51280" y="2452680"/>
              <a:ext cx="23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1280" y="2695680"/>
              <a:ext cx="23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51280" y="1700280"/>
              <a:ext cx="0" cy="99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73480" y="1700280"/>
              <a:ext cx="0" cy="9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7640" y="1700280"/>
              <a:ext cx="0" cy="99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189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问题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汽车匀速行驶途经王家庄、青山、秀水三地的时间如表所示，翠湖在青山、秀水两地之间，距青山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千米，距秀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千米。王家庄到翠湖的路程有多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997360"/>
            <a:ext cx="8459640" cy="609480"/>
          </a:xfrm>
          <a:prstGeom prst="cloudCallout">
            <a:avLst>
              <a:gd name="adj1" fmla="val 27912"/>
              <a:gd name="adj2" fmla="val -309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Arial"/>
              </a:rPr>
              <a:t>你会用算术方法解决这个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116000" y="4005360"/>
                <a:ext cx="6629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013360"/>
            <a:ext cx="896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汽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王家庄到青山行车的速度是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——————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从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庄到秀水行车的速度是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——————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68040" y="1844640"/>
            <a:ext cx="3577320" cy="1087560"/>
            <a:chOff x="968040" y="1844640"/>
            <a:chExt cx="3577320" cy="1087560"/>
          </a:xfrm>
        </p:grpSpPr>
        <p:sp>
          <p:nvSpPr>
            <p:cNvPr id="98" name=""/>
            <p:cNvSpPr/>
            <p:nvPr/>
          </p:nvSpPr>
          <p:spPr>
            <a:xfrm>
              <a:off x="1187280" y="2563920"/>
              <a:ext cx="316872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56000" y="234792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03280" y="1987560"/>
              <a:ext cx="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5640" y="234792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87280" y="1987560"/>
              <a:ext cx="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87280" y="2131920"/>
              <a:ext cx="201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187280" y="2131920"/>
              <a:ext cx="21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040" y="256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王家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960" y="2563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青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10680" y="2563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翠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0320" y="2563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秀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2600" y="184464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33320" y="2276280"/>
              <a:ext cx="6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0040" y="2276280"/>
              <a:ext cx="6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6659640" y="1773360"/>
          <a:ext cx="2305080" cy="1218960"/>
        </p:xfrm>
        <a:graphic>
          <a:graphicData uri="http://schemas.openxmlformats.org/drawingml/2006/table">
            <a:tbl>
              <a:tblPr/>
              <a:tblGrid>
                <a:gridCol w="1152360"/>
                <a:gridCol w="115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家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秀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0240" y="189000"/>
            <a:ext cx="64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如果设王家庄到翠湖的路程为ｘ千米，你能列出方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40280" y="1197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题意画出示意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480000" y="333360"/>
            <a:ext cx="2663640" cy="1130400"/>
            <a:chOff x="6480000" y="333360"/>
            <a:chExt cx="2663640" cy="1130400"/>
          </a:xfrm>
        </p:grpSpPr>
        <p:sp>
          <p:nvSpPr>
            <p:cNvPr id="116" name=""/>
            <p:cNvSpPr/>
            <p:nvPr/>
          </p:nvSpPr>
          <p:spPr>
            <a:xfrm>
              <a:off x="6480000" y="333360"/>
              <a:ext cx="2663640" cy="1130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29640" y="608040"/>
              <a:ext cx="174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示意图有助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分析问题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22720" y="404640"/>
              <a:ext cx="1778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682640" y="2997360"/>
            <a:ext cx="4664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可以用含ｘ的式子表示关于路程的数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家庄距青山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，王家庄距秀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———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60920" y="3357720"/>
            <a:ext cx="13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x-50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1640" y="33577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x+70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8920" y="3919680"/>
            <a:ext cx="509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时间表中可以得出关于时间的数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王家庄到青山行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，王家庄到秀水行车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852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0000" y="4292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81600" y="6035760"/>
            <a:ext cx="446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想一想：汽车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匀速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行驶中，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速度、时间、路程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这三个量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哪个量不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64008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速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变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108108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64000" y="5373720"/>
                <a:ext cx="115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0600" y="47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是列出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700360" y="260280"/>
                <a:ext cx="2592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2738520"/>
            <a:ext cx="2736720" cy="1009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605200" y="4762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9280" y="907920"/>
            <a:ext cx="1727280" cy="800280"/>
            <a:chOff x="179280" y="907920"/>
            <a:chExt cx="1727280" cy="800280"/>
          </a:xfrm>
        </p:grpSpPr>
        <p:pic>
          <p:nvPicPr>
            <p:cNvPr id="134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79280" y="907920"/>
              <a:ext cx="77148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55640" y="1052280"/>
              <a:ext cx="115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Arial"/>
                </a:rPr>
                <a:t>思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79280" y="17064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上面的问题，你还能列出其他方程吗？如果能，你依据的是哪个相等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28760" y="4005360"/>
            <a:ext cx="2698560" cy="1031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51280" y="2565360"/>
            <a:ext cx="4897440" cy="2448000"/>
          </a:xfrm>
          <a:prstGeom prst="cloudCallout">
            <a:avLst>
              <a:gd name="adj1" fmla="val -59851"/>
              <a:gd name="adj2" fmla="val 187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还可以依据路程、时间、、速度间的关系列出其他方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517680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方程时，要先设未知数（通常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字母表示未知数），然后根据问题中的相等关系，写出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含有未知数的等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332640"/>
            <a:ext cx="23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讨论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12536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算术方法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:  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列出的算式表示解题的计算过程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,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其中只能 用已知数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.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对于较复杂的问题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,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列算式比较困难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列方程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代数方法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):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方程是根据题中的等量关系列出的等式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.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其中既含已知数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,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又含未未知数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.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使问题的已知量与未知量之间的关系很容易表示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,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  <a:ea typeface="新宋体"/>
              </a:rPr>
              <a:t>解决问题就比较方便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新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40053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华文行楷"/>
              </a:rPr>
              <a:t>所以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华文行楷"/>
              </a:rPr>
              <a:t>从算术到方程是数学的进步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根据下列问题，设未知数并列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用一根长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4cm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的铁丝围成一个正方形，正方形的边长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一台计算机已使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 70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小时，预计每月再使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小时，经过多少月这台计算机的使用时间达到规定的检修时间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45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小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某校女生占全体学生数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2﹪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，比男生多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，这个学校有多少学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4800" y="2997360"/>
            <a:ext cx="30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设正方形的边长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χ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χ=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89880" y="3933720"/>
            <a:ext cx="6540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后这台计算机的使用时间达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时，那么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后使用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700+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2 4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91160" y="5661000"/>
            <a:ext cx="598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设这个学校的学生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那么女生数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男生数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-.5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0.5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63160" y="1890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6313"/>
                </a:solidFill>
                <a:latin typeface="Arial"/>
              </a:rPr>
              <a:t>观察上面所列方程</a:t>
            </a:r>
            <a:r>
              <a:rPr b="1" lang="en-US" sz="2400" spc="-1" strike="noStrike">
                <a:solidFill>
                  <a:srgbClr val="19631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196313"/>
                </a:solidFill>
                <a:latin typeface="Arial"/>
              </a:rPr>
              <a:t>看看它们具有什么共同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83664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0+150x=2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                                 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2x-(1-0.52)x=8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x+1.5x)=2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2209680" cy="851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276640"/>
            <a:ext cx="93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面各方程只含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未知数（元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未知数的次数都是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次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样的方程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元一次方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41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4508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42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设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4221000"/>
            <a:ext cx="20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找等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7956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列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4797360"/>
            <a:ext cx="45356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6200" y="45086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实际问题中的数量关系，利用其中的相等关系列出方程，是用数学解决实际问题的一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4520" y="3716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上面分析的过程可以表示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404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下列各式哪些是一元一次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89000"/>
            <a:ext cx="962640" cy="761760"/>
            <a:chOff x="0" y="189000"/>
            <a:chExt cx="962640" cy="761760"/>
          </a:xfrm>
        </p:grpSpPr>
        <p:sp>
          <p:nvSpPr>
            <p:cNvPr id="162" name=""/>
            <p:cNvSpPr/>
            <p:nvPr/>
          </p:nvSpPr>
          <p:spPr>
            <a:xfrm>
              <a:off x="629640" y="236160"/>
              <a:ext cx="33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89000"/>
              <a:ext cx="7621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324000" y="981000"/>
            <a:ext cx="81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⑴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          ⑵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⑶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 baseline="30000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⑷ 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6y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⑸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m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－（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＝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(6)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-7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292720" y="765000"/>
            <a:ext cx="1523880" cy="838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329280" y="28018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根据下列问题，设未知数，列出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49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环形跑道一周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00m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沿跑道跑多少周，可以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000m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甲种铅笔每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.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元，乙种铅笔每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.6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元，用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元钱买了两种铅笔共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枝，两种铅笔各买了多少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一个梯形的下底比上底多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㎝，高是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㎝，面积是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求上底。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7:22:05Z</dcterms:created>
  <dc:creator>乐中强</dc:creator>
  <dc:description/>
  <cp:keywords/>
  <dc:language>en-US</dc:language>
  <cp:lastModifiedBy>微软用户</cp:lastModifiedBy>
  <dcterms:modified xsi:type="dcterms:W3CDTF">2014-06-30T01:10:19Z</dcterms:modified>
  <cp:revision>24</cp:revision>
  <dc:subject/>
  <dc:title>从算式到方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